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010C-5380-4906-9F28-9BDD5682FBD5}"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5A81FB3-26A2-4AE8-B920-1D1103662D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9EA0729-6D83-4E7A-B8EA-8F81B9EBA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3A21245-D185-4FBC-8E75-8AE85501AA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E355CAE-0ECB-4F76-8805-9D33B34517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2D7A5996-AE04-4777-83CA-0E57C1AFAD6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95615D8-6936-4BC9-BE2F-D1BE797104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7068CB9-D7AA-4A6D-96C5-928E155DE2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5890C21-F194-485F-AA16-B0CFE0D8DF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D1A10F8-13CA-4BD1-B833-6A9B48C7C0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839E334-ADE6-419A-9649-1EE272BC29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D42ECD4-F5E5-40FF-B8D6-7F726BE979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C244ACB-8F16-4642-9208-4BF3D40C1F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C40D8D1-8958-4064-8FC9-D308CC952C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79D2089-4DAE-4CCC-B0BE-4A4FA500E1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D4CBE6C-2841-42C7-8FCB-9A93F73FE1D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A3F374A2-7C5B-48F9-8F90-41DCCAFD978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CC78C5C1-65E8-498B-A6DF-C6C7C589A59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335134C-6000-465D-A78C-ECD867817F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F1149EC-AE1A-4777-A8AD-C313B2BA6E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1AC0583-F45C-42CF-8DA7-29B8EA301C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0C3AAE6-4718-4346-AD56-9D14C10EEE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846BAA0-E0EC-4609-AC42-17AB2356CE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52624F7-1F14-4670-9BE6-19A757559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7FD9C0E-474B-49DF-98FF-FEB3B65054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4FF7068-BD0B-4640-85C6-3F8BF63C10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E5466EC-0E4C-433C-BB06-DC07F45809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7628AC6-3E8B-463C-ABA6-07DC07528C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17FEC04-D62A-4F03-8AB0-5D072FCB53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73098BE-A2E8-4701-8167-DFD0C016D7D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7B6745A-2576-4AA1-8757-E08CB53238C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96361FD-DEA1-476A-B7A5-67C206A08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AACCDA-F33A-45BA-BACC-EBDE518D3A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A1EF293-EF3B-4C35-A5AF-33286A15C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09C1FDE-829A-4506-8F00-29DEE087D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FA8A594-3291-423B-9587-60B3E6ECC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02BA8C-1791-405F-ABC7-8937AC15ED2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5556-3046-457C-9F1C-CE0FA60FD00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A6E6-B1E3-4D7E-BEC4-67F8CBD8D5A7}" type="datetime">
              <a:rPr b="0" lang="de-DE" sz="900" spc="-1" strike="noStrike">
                <a:solidFill>
                  <a:srgbClr val="000000"/>
                </a:solidFill>
                <a:latin typeface="DB Office"/>
              </a:rPr>
              <a:t>31.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4B78-44E7-4E0B-94A8-A2E9281F781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5CEA-A5D7-45D4-992E-671BF7D9DDFD}" type="datetime">
              <a:rPr b="0" lang="de-DE" sz="900" spc="-1" strike="noStrike">
                <a:solidFill>
                  <a:srgbClr val="000000"/>
                </a:solidFill>
                <a:latin typeface="DB Office"/>
              </a:rPr>
              <a:t>31.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ADC7-3E4D-484F-B384-31CE27B203E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5600-1AC0-4483-AB59-8AA211275610}" type="datetime">
              <a:rPr b="0" lang="de-DE" sz="900" spc="-1" strike="noStrike">
                <a:solidFill>
                  <a:srgbClr val="000000"/>
                </a:solidFill>
                <a:latin typeface="DB Office"/>
              </a:rPr>
              <a:t>31.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7D86-25D6-44E0-8922-3832BD6535D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1964-8CDC-47D1-A3F4-9804C7BBEC0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692C-BAFF-4F24-9971-7162ED30C97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85FC-199D-4700-8B62-D3DDBD437F2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27E6-7556-49C6-8277-564AEF22AC5B}"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3A4E-E4F8-46A6-9B7F-16ED7E8B513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6C51-6AF5-4E37-9268-0E621F99269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29BC-9C7C-4FCF-BECB-E33B31F4F33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D2F3-E101-4324-A58A-B413403D941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E6B1-0417-490B-8173-384CE699270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E4C7-1F98-458A-B50A-9DE8CB3F4B7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1777-7A9A-40A8-8F4B-F533F667C25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9C7C-ACA7-4FDD-B92C-42E5802C599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C1E2-1476-47ED-8655-E10A01FC5B8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2347-5037-4E8F-98BA-4440959DBDE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B613-5CFE-4DF6-820B-6C84C507E9D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